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8DAC-3399-4AC6-B0F7-D0943CFC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3ED1-F0B4-4B3D-8001-ED5B6D01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E55B5-9615-4A46-BA54-37262121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F181-569E-4619-9AF8-EE29A3B2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6F2E-2FBD-4A65-95FA-CBAD8203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CDAE-C4D6-408B-97CC-7347A088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C285-824A-46A4-89FE-2E9707F8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3C97-11A9-4E5A-9D21-960CD7C4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EF04-D0AC-4264-8BD0-662552CE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D05D-FC0B-45FF-B0DD-96753D34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6753-18A0-4B94-AAFF-4D786DDA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E474-1BF5-4D17-B61B-710A13A1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AFA3-7911-4104-8EDF-8B63701C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DC8-76A4-4ED4-9051-506169DB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5A07-8C96-4E67-BC0F-7DFC7C5B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EEAF-7468-4278-AE0E-3DE51DE3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FBEB-44B1-4F5A-9AC6-256C1B2D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A261-8B69-4B76-BB8C-F8160830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FF04-9E4D-4A91-9422-16533F0A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7E9D-8F3A-47DA-BD72-10ED3F4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6041-2D1F-4F90-8F6B-FC1B11D4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81E1-96D2-4FB6-A621-A328AD74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741BE-F7B9-4565-B05A-45CF5E1F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EDCB-56A2-49EE-86EE-FDCAD8D4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830-08FC-46D3-B00F-CF4D5D82E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2F2-7B0C-46DD-AEB0-179B84764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Napole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6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cial re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away from social reforms of r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eace with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lasses supported him, émigrés returned, peasants retained land, middle class benefited from the goo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given to all based on talent and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oleonic Code: uniform set of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lty until inno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lose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of speech and press lim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4-1812 years of military campa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great risks and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d rapid movements and effective use of large ar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new plans of attack for each battle, none of his enemies knew what to ex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ed those for efforts, men lov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Europe Redr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nnexed Netherlands, Belgium, parts of Italy, Germany,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bolished the 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ut Prussian territory in half and created the Grand Duchy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d brothers and family in charge of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d alliance with other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osted nationalism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d to conquer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ed to do so, he was beaten at the Battle of Trafalgar by Admiral Ne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ould not attack by land so he attacked their trade, set up Continental System, closed all ports to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 System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Europe hated the liberal system se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ationalism works against him, other countries saw him as an oppressor, Continental system creates scarcity of goods and raises thei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m in other countries helped to unite them to destroy French and others help rebe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pain and Austria battle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resisted invaders ,use guerrilla warfare, English send troops to hel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mis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d Russia with 600,000 soldiers and 50,000 horses, thought to be quick vi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s avoid battles run toward east burning everything in its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army begin to get hungry with no food, Napoleon forced to retreat, during retreat, Russians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,000 surv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es defeat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, Russia, Austria and Prussia create an unstoppable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 forces Napoleon to abdicate and be exiled to E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revenge of nobles, restoration of king, and economic depression people called for his return, he answered and escaped E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l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battle between two great ge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oleon vs. Well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ay long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iled to St Helena where he dies of stomach can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 of Vi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eting of diplomats and heads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do about map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 of Conference was Prince Klemens von Mettern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for 10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goal was to maintain peace by establishing balance of power and restore mon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t of Europe created to have countries meet to discuss peace, lasted until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33624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78040" y="762120"/>
            <a:ext cx="3787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poleon Comes to power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Cor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ne yrs. Old went to milit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0yr he was eager to make a name for 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avored the Jacobins and republican go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a larg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ctories and Trium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a sharp mind and head for strategy Napoleon quickly rose through the r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successful in defeating the British at Toulon, the Austrians in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n expedition in Egypt, hoping to get to India, not successful, he found instead valuable Rosetta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kept loss a secret from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e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99 Napoleon becomes a political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elp to overthrow the weak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reated the three man consul, which he was a member, he will become a member fo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rose to power with political connections of his wife, Josep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yrs later he crowns himself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level of power he acquired Napoleon held a plebiscite vote( all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ach vote the French supporte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ill held all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poleons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conom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prices, encouraged new industry, built up the infra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public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9:43:18Z</dcterms:created>
  <dc:creator>shoyer</dc:creator>
  <dc:description/>
  <dc:language>en-US</dc:language>
  <cp:lastModifiedBy>shoyer</cp:lastModifiedBy>
  <dcterms:modified xsi:type="dcterms:W3CDTF">2009-12-14T13:54:05Z</dcterms:modified>
  <cp:revision>8</cp:revision>
  <dc:subject/>
  <dc:title>Napoleon</dc:title>
</cp:coreProperties>
</file>